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270-CF5D-4D20-B8F0-6A043F7B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4B9-D21F-4274-BC0C-28E2E3C5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89C-27D4-4E65-AAAD-C4647058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076-6AA9-4972-9F84-E765744B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2D5-27F8-4955-904B-F9A897E3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13C-C443-4B2F-8D66-D033A292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6BD-74D7-4FFE-AE8B-CB14216F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81B-5C0B-4DBD-AE23-1B722BA5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DC4-2C49-4914-9FE3-B17A0BD5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369-8436-4331-9D17-E2F685D8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9B1-475F-4B79-BC04-EC0B6DEA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D75-57DD-4966-9866-BD40FC5D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89AE-BA17-4848-8FFB-E27383013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исунки по правилам дорожного движения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5 Б кл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1052640"/>
            <a:ext cx="58640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Мчатся по дороге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ыстрые машины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Там вы попадете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ямо им под 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43545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осреди дороги дети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Мы всегда за них в ответе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Чтоб не плакал их родитель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Будь внимательней, водител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124000" y="23194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88000" y="836640"/>
            <a:ext cx="3898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десь машину не грузи,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Не паркуй, не тормози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Этот знак всем говорит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«Тот не прав, кто здесь стоит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87280" y="836640"/>
            <a:ext cx="35830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7280" y="83664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от большой зеленый сквер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А напротив буква «Р»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е простая буква «Р»,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А в квадрате буква «Р»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Неужели возле сквера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«Р» нельзя произнос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755640" y="836640"/>
            <a:ext cx="343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88000" y="836640"/>
            <a:ext cx="3898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 шоссе брат учит Славу: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Взгляд налево, взгля направо!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сли нет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ашин вблизи,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о иди, не тормози!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Если же машина близко,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той, как во поле редиска!»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лава сразу загрустил: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Долго тут еще расти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3919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2:27:36Z</dcterms:created>
  <dc:creator>007</dc:creator>
  <dc:description/>
  <dc:language>en-US</dc:language>
  <cp:lastModifiedBy>Admin</cp:lastModifiedBy>
  <dcterms:modified xsi:type="dcterms:W3CDTF">2011-04-19T17:55:15Z</dcterms:modified>
  <cp:revision>19</cp:revision>
  <dc:subject/>
  <dc:title>Слайд 1</dc:title>
</cp:coreProperties>
</file>